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A5C9-8866-4302-95C6-EDF4850BD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D7EA-0841-4A89-9345-C6E75361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EF0E-C248-4AE6-B5E5-0AC224D60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0AB9-5E08-41E6-B150-CFC058965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BD22-FCA9-4B8A-BF7B-02180F5FA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B035-AB8E-444D-889E-CC724686C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A3888-D383-459D-9062-ECFCD528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0440F-2B97-4241-8037-2F498382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84FC-BE6F-47C9-87EB-B2B3EF050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A6F26-BC9B-45F9-B0A9-D278B128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F227-305C-4525-A527-AE68AA46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BD18-8C6F-4B1B-BF14-45705EC44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5424-FE48-4242-B5D4-0BC4A352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69A43-ED18-47C1-9850-2868F665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56756-C056-4A7F-8500-82A26446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E382-8501-4F34-8363-965B6F1A7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1783-016D-4B7A-814F-7E5D30713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685B78-2FFA-4580-9B33-9B07C16A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75E865-DB0A-418E-AB38-E69232A6A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5F44DB-2403-40CF-8342-C85DD657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6DF4FA-8422-40F7-803F-84A0AB0C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7DFB0-F66B-41D0-8D41-DC3F2AE7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EAFE-5C68-4B63-84FB-BDDCC1C1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036889-B1D2-456B-B5DB-A7FB9A51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04B71D-D966-46AF-B47D-B73371AC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5AB92E-C938-467C-A971-772468BE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76ADB3-129F-484A-8CD6-8D45EDB0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BFD9C0-C196-429F-AC7E-BB096DE9D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4076D-A8CC-4438-A1D0-70F33F1B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6D081-5FC6-429F-833F-010B5740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67256-5AF9-4038-8A02-B07E35866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AC11A-A3C3-448C-80BC-50F253D67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EF36A-653A-4C83-B6B5-5FBBB8C20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38FF-F479-4E89-8672-27825698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97F81-F617-4B62-83C4-B21320F10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CD82C-2572-4D47-AB0B-A60145EE3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E099F-6F1F-4871-898B-477E5BCC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19588-A4BF-49ED-BA3E-7C7A4098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24B7FF-2C70-4555-AA54-9D17A376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52AFA-7387-4AA0-91F9-AC7A54A98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6435A-67C2-444C-A1DC-A27816767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9F6ED-1008-46D4-A610-94D5D4684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F908CE-9B7C-45CB-A4D8-FDA9D7975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9EC-6B48-40E4-9B20-82486383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5D6-64D2-4CB8-9143-5CCC11CBA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119-7DB6-4C3C-8942-36248C65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EB9B-4B7B-4EAB-8681-754E6AC1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B4BA-EC31-4C76-B5D4-CF441004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F38C-1BC2-46CD-B84B-B31F0F9DAE72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04C4-3022-47CA-989F-40B6A5B0EF2E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28D4E-FB3B-425C-B1C2-AA63E687676E}" type="datetime3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C26A-C912-4CF4-AC59-A0FF39B0946B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E693-5CD3-4744-9B1A-613CC20E8721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939D-D9F9-4C6A-83AD-550F30BD99F0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A4F24-0984-4AD2-8BF1-9E0CB1B051A0}" type="datetime3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BF7D-5B35-4F5E-9480-53EACF37DCD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Career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The Second Half of CHV 2O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What Is This Course All About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52320" y="2170080"/>
            <a:ext cx="7902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YO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YOUR personality, interests, and skill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areer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Research for YOUR possible future career and other interesting career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hat future job prospects ar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lanning skill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Making goal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hat YOU need to get the career YOU wan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Time management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8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ow To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Write a resume and cover letter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ucceed in an intervie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8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Follow up after an intervie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3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3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3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3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3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3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3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How Much Is Everything Worth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4160"/>
            <a:ext cx="6777000" cy="38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erm Evaluation: 7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wo Tes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ortfolio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ojec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nal Evaluation: 30%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inal Exam: 10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Careers ISU: 20%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reer Research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Guest Speaker Interview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wipe dir="l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Project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4160"/>
            <a:ext cx="6777000" cy="41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ortfolio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hapters 1, 2, and 3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Occasional portfolio conferences to make sure you’re staying on top of things </a:t>
            </a:r>
            <a:r>
              <a:rPr b="0" lang="en-US" sz="2000" spc="-1" strike="noStrike">
                <a:solidFill>
                  <a:srgbClr val="3e3d2d"/>
                </a:solidFill>
                <a:latin typeface="Wingdings"/>
                <a:ea typeface="Wingdings"/>
              </a:rPr>
              <a:t>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rojec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How Others See You Survey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Goal Journal  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Short Essays/Reflections, etc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Assessments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Learning Style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Interest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Careers, etc.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split dir="out" orient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3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-1296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ISU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704520" y="1130400"/>
            <a:ext cx="7762680" cy="53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Guest Speaker Interview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Groups of 2 or 3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Arrange for a guest to talk about their career to the class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Late May/Early June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Dates are booked on first come, first served basis </a:t>
            </a:r>
            <a:r>
              <a:rPr b="0" lang="en-US" sz="1900" spc="-1" strike="noStrike">
                <a:solidFill>
                  <a:srgbClr val="3e3d2d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 check as soon as possible!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Pick someone who is comfortable in front of crowds, has an interesting job, and has a passion for their job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Your guest speaker is YOUR responsibility, so you will need to: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meet with them,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prepare them with your questions,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have questions to ask after the interview in case the class is not asking a lot of questions 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lnSpc>
                <a:spcPct val="90000"/>
              </a:lnSpc>
              <a:spcBef>
                <a:spcPts val="476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e3d2d"/>
                </a:solidFill>
                <a:latin typeface="Century Gothic"/>
              </a:rPr>
              <a:t>thank you gift, etc.</a:t>
            </a:r>
            <a:endParaRPr b="0" lang="en-US" sz="19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499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e3d2d"/>
                </a:solidFill>
                <a:latin typeface="Century Gothic"/>
              </a:rPr>
              <a:t>3 Reports: 1 on your guest’s interview, 2 on others’</a:t>
            </a:r>
            <a:endParaRPr b="0" lang="en-US" sz="2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randomBar dir="vert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Some Things to Consid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s is mainly a project-based clas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We will only have 3 tests, including a final exam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Keeping on top of your work is </a:t>
            </a:r>
            <a:r>
              <a:rPr b="1" lang="en-US" sz="2200" spc="-1" strike="noStrike" u="sng">
                <a:solidFill>
                  <a:srgbClr val="3e3d2d"/>
                </a:solidFill>
                <a:uFillTx/>
                <a:latin typeface="Century Gothic"/>
              </a:rPr>
              <a:t>CRUCIAL</a:t>
            </a: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 so you don’t fall behind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s half is ALL ABOUT YOU! </a:t>
            </a:r>
            <a:r>
              <a:rPr b="0" lang="en-US" sz="2400" spc="-1" strike="noStrike">
                <a:solidFill>
                  <a:srgbClr val="3e3d2d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How YOU learn best, what YOU enjoy most, YOUR career prospects, YOUR cover letter and resume, etc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Ways To Succeed In This Course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ome to clas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sten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Keep on top of your work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Use time in class efficiently (i.e.: do work in class so you don’t have to take as much – if any – home with you)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pull dir="l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4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First Thing’s Firs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546120" y="2323800"/>
            <a:ext cx="802656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Get a portfolio for Friday (i.e.: duotang,etc.)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Bring in pictures/markers/pencil crayons/magazines to decorate your portfolio with things about YOU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Portfolios will stay in class. Any work not finished can be taken home to complete.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Bring a positive quote for Friday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550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This is your title page that you will also be decorating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p:transition spd="slow">
    <p:cover dir="l"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6" dur="10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1" dur="10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10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1000"/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6" dur="1000"/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09:01Z</dcterms:created>
  <dc:creator>Sarah</dc:creator>
  <dc:description/>
  <dc:language>en-US</dc:language>
  <cp:lastModifiedBy>Sarah</cp:lastModifiedBy>
  <dcterms:modified xsi:type="dcterms:W3CDTF">2012-04-15T20:43:09Z</dcterms:modified>
  <cp:revision>9</cp:revision>
  <dc:subject/>
  <dc:title>Careers</dc:title>
</cp:coreProperties>
</file>